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8EE-5916-494B-BCE3-F4788F0B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42A-7433-4724-AB79-070D0E43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C16-9854-42F7-8D87-B610D71C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76A-5210-478C-A32F-D8E00062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6539-1D71-4252-AFE7-98D1487A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5E4E-AA5A-4EF6-8971-A8C36338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4F2A-A879-4AF0-B4D0-251AF082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577E-F834-4DF5-8EDA-36CFE2B6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A433-78EF-42B1-A7B4-0F37BDB2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8C43-CD95-485D-B8B8-DC561F87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672B-7539-4C8E-85DE-E3AD34D7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174-38C6-409D-9737-638F6018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FDD0-89FB-4B27-BDA0-1EA9DF22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A3DD-1D70-4542-90F7-C858B91A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AD8F-CB3F-4384-98B3-2971F5C3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977F-F03C-4AE3-AA6D-B9459386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6E56-E069-4994-905D-2866FB1F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382-4FBD-47F6-9780-95B99038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17F-BB1B-476B-81C5-C880EC91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0E3-8FB4-487A-B8F8-4CDCDE92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F27-08AA-4D2C-92E3-EBC90E10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830-1A21-4395-BAEB-E981B69E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70B-ADB3-4FCB-8CC0-4F555828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C08-BD56-4DC5-9BD2-8B5381C1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ADDC-0A7B-4E68-A055-907D36E08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22B9-7773-4773-8AEF-F9768CD6755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5"/>
          <p:cNvSpPr txBox="1"/>
          <p:nvPr/>
        </p:nvSpPr>
        <p:spPr>
          <a:xfrm>
            <a:off x="533520" y="1752480"/>
            <a:ext cx="67053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nrenewab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nerg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ossil Fuel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remains of ancient organisms that changed into </a:t>
            </a: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coal, oil, or natural g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ovide most of the energy used tod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2 main problem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upply is 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limit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btaining and using them causes 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environmental problem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Picture 4" descr="c:\program files\microsoft office\clipart\standard\stddir3\in00563_.wmf"/>
          <p:cNvPicPr/>
          <p:nvPr/>
        </p:nvPicPr>
        <p:blipFill>
          <a:blip r:embed="rId1"/>
          <a:stretch/>
        </p:blipFill>
        <p:spPr>
          <a:xfrm>
            <a:off x="7264440" y="2438280"/>
            <a:ext cx="1879560" cy="1603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www.thegenerator.biz/RetroBeverlyHillbillies62.jpg"/>
          <p:cNvPicPr/>
          <p:nvPr/>
        </p:nvPicPr>
        <p:blipFill>
          <a:blip r:embed="rId2"/>
          <a:srcRect l="19581" t="21487" r="8617" b="0"/>
          <a:stretch/>
        </p:blipFill>
        <p:spPr>
          <a:xfrm>
            <a:off x="7238880" y="419112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uels for Different Us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sed for </a:t>
            </a: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5 main purpose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Cook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Transport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Manufactur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Heating &amp; cooling building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Generating electricity to run machines &amp; applianc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Suitabilit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of a fuel for each application depends on the fuel’s energy content, cost, availability &amp; safety, and the byproducts of the fuel’s u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1320"/>
            <a:ext cx="7848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ectricity – Power on Deman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in fuels is often converted into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electrical energ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in order to power machines because electricity is more convenient to u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Can be transported quickly across long or short distanc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Disadvantages of electricity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ifficult to sto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ther energy sources have to be used to generate i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1320"/>
            <a:ext cx="784872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ow is Electricity Generated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Electric generator: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converts mechanical energy (motion) into electrical energ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ses a </a:t>
            </a:r>
            <a:r>
              <a:rPr b="0" i="1" lang="en-US" sz="2400" spc="-1" strike="noStrike">
                <a:solidFill>
                  <a:srgbClr val="fe1f08"/>
                </a:solidFill>
                <a:latin typeface="Arial Black"/>
              </a:rPr>
              <a:t>turbin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(wheel that changes the force of a moving gas or liquid into energy that can do work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ater is boiled to produce the steam that turns the turbin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water is heated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by burning a fuel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(coal, gas) or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by fission of uranium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in nuclear pla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turbine spins a generator to produce electric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17_01"/>
          <p:cNvPicPr/>
          <p:nvPr/>
        </p:nvPicPr>
        <p:blipFill>
          <a:blip r:embed="rId1"/>
          <a:stretch/>
        </p:blipFill>
        <p:spPr>
          <a:xfrm>
            <a:off x="0" y="92556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ergy Use in the U.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ople i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developed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societies use much more energy than people i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developing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countries 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U.S. uses more energy per person than any other country in the world except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Canada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&amp; the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United Arab Emirat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13160" indent="-2743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ses more than 25% of its energy resources to transport goods &amp; people (trucks &amp; personal vehicle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13160" indent="-2743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esidents of U.S. &amp; Canada have some of the lowest gasoline tax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ergy Use in the U.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Picture 3" descr="17_03"/>
          <p:cNvPicPr/>
          <p:nvPr/>
        </p:nvPicPr>
        <p:blipFill>
          <a:blip r:embed="rId1"/>
          <a:stretch/>
        </p:blipFill>
        <p:spPr>
          <a:xfrm>
            <a:off x="2286000" y="1371600"/>
            <a:ext cx="456732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rld Energy U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Picture 3" descr="17_02"/>
          <p:cNvPicPr/>
          <p:nvPr/>
        </p:nvPicPr>
        <p:blipFill>
          <a:blip r:embed="rId1"/>
          <a:stretch/>
        </p:blipFill>
        <p:spPr>
          <a:xfrm>
            <a:off x="838080" y="1752480"/>
            <a:ext cx="7315200" cy="492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21:13:29Z</dcterms:created>
  <dc:creator>Jason Turri</dc:creator>
  <dc:description/>
  <dc:language>en-US</dc:language>
  <cp:lastModifiedBy>Hazleton Area School District</cp:lastModifiedBy>
  <dcterms:modified xsi:type="dcterms:W3CDTF">2009-04-14T11:06:36Z</dcterms:modified>
  <cp:revision>6</cp:revision>
  <dc:subject/>
  <dc:title>Nonrenewable Energy</dc:title>
</cp:coreProperties>
</file>